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266-A021-4C22-9FC7-22308C48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A52-22B0-44A3-9B9B-DF9ABE06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95B-A6BD-422F-B7D2-4B477D29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283-2E82-41DB-8CA3-A9F1AD57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645-E566-4A72-8B54-FB5117DA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49D-EEE0-477D-94A7-98231D8E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E46-A394-4332-A9F7-511DBD31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CC6-3F95-47B3-A69C-9BC16D6F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1DB-F7B1-4B32-9497-0719A27B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DAA-6EE8-4E2E-A916-4B34914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0C3-22CF-43B3-AA62-C591548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44F-F457-40E4-81D5-F9154ECF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EDC7-C357-46CD-BDB1-2939906D3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wnloading Data From American FactF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 the h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77" name="AmericanFactFinderCenterAcrossSelection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6752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gn Colum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mericanFactFinderAutoSize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3263760" cy="473040"/>
          </a:xfrm>
          <a:prstGeom prst="rect">
            <a:avLst/>
          </a:prstGeom>
          <a:ln w="0">
            <a:noFill/>
          </a:ln>
        </p:spPr>
      </p:pic>
      <p:pic>
        <p:nvPicPr>
          <p:cNvPr id="81" name="AmericanFactFinderAutoSize2" descr=""/>
          <p:cNvPicPr/>
          <p:nvPr/>
        </p:nvPicPr>
        <p:blipFill>
          <a:blip r:embed="rId2"/>
          <a:stretch/>
        </p:blipFill>
        <p:spPr>
          <a:xfrm>
            <a:off x="295200" y="3505320"/>
            <a:ext cx="858384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ng as an Excel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mericanFactFinderSaveAsExcel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77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AmericanFactFinderSort" descr=""/>
          <p:cNvPicPr/>
          <p:nvPr/>
        </p:nvPicPr>
        <p:blipFill>
          <a:blip r:embed="rId2"/>
          <a:stretch/>
        </p:blipFill>
        <p:spPr>
          <a:xfrm>
            <a:off x="3300480" y="2205000"/>
            <a:ext cx="35560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 By Total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AmericanFactFinderSort1b" descr=""/>
          <p:cNvPicPr/>
          <p:nvPr/>
        </p:nvPicPr>
        <p:blipFill>
          <a:blip r:embed="rId2"/>
          <a:stretch/>
        </p:blipFill>
        <p:spPr>
          <a:xfrm>
            <a:off x="0" y="1770120"/>
            <a:ext cx="89488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AmericanFactFinderSort2" descr=""/>
          <p:cNvPicPr/>
          <p:nvPr/>
        </p:nvPicPr>
        <p:blipFill>
          <a:blip r:embed="rId2"/>
          <a:stretch/>
        </p:blipFill>
        <p:spPr>
          <a:xfrm>
            <a:off x="3300480" y="2205000"/>
            <a:ext cx="35560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 by Senior Citiz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AmericanFactFinderSort2b" descr=""/>
          <p:cNvPicPr/>
          <p:nvPr/>
        </p:nvPicPr>
        <p:blipFill>
          <a:blip r:embed="rId2"/>
          <a:stretch/>
        </p:blipFill>
        <p:spPr>
          <a:xfrm>
            <a:off x="0" y="1770120"/>
            <a:ext cx="89488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IRERCTipsheetDatabase" descr=""/>
          <p:cNvPicPr/>
          <p:nvPr/>
        </p:nvPicPr>
        <p:blipFill>
          <a:blip r:embed="rId2"/>
          <a:stretch/>
        </p:blipFill>
        <p:spPr>
          <a:xfrm>
            <a:off x="228600" y="1604880"/>
            <a:ext cx="87757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sheet Tipshe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RERCTipsheetDatabaseSearchResults" descr=""/>
          <p:cNvPicPr/>
          <p:nvPr/>
        </p:nvPicPr>
        <p:blipFill>
          <a:blip r:embed="rId1"/>
          <a:stretch/>
        </p:blipFill>
        <p:spPr>
          <a:xfrm>
            <a:off x="166680" y="1484280"/>
            <a:ext cx="8977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Age and Sex (G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48320" y="3052800"/>
          <a:ext cx="4414680" cy="22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052800"/>
                    <a:ext cx="441468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State -- Cou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mericanFactFinderSelectByStateandCounty" descr=""/>
          <p:cNvPicPr/>
          <p:nvPr/>
        </p:nvPicPr>
        <p:blipFill>
          <a:blip r:embed="rId1"/>
          <a:stretch/>
        </p:blipFill>
        <p:spPr>
          <a:xfrm>
            <a:off x="2066760" y="2714760"/>
            <a:ext cx="5010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 Data and choose Down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3" name="AmericanFactFinderSelectDownload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2296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Comma Delimi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mericanFactFinderSelectCommadelimited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846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the file in 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AmericanFactFinderOpenFileinExcel" descr=""/>
          <p:cNvPicPr/>
          <p:nvPr/>
        </p:nvPicPr>
        <p:blipFill>
          <a:blip r:embed="rId2"/>
          <a:stretch/>
        </p:blipFill>
        <p:spPr>
          <a:xfrm>
            <a:off x="709560" y="1981080"/>
            <a:ext cx="75963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819520" y="2590920"/>
            <a:ext cx="2916000" cy="2342880"/>
            <a:chOff x="2819520" y="2590920"/>
            <a:chExt cx="2916000" cy="2342880"/>
          </a:xfrm>
        </p:grpSpPr>
        <p:pic>
          <p:nvPicPr>
            <p:cNvPr id="64" name="AmericanFactFinderInsertWorksheet" descr=""/>
            <p:cNvPicPr/>
            <p:nvPr/>
          </p:nvPicPr>
          <p:blipFill>
            <a:blip r:embed="rId1"/>
            <a:stretch/>
          </p:blipFill>
          <p:spPr>
            <a:xfrm>
              <a:off x="2819520" y="2590920"/>
              <a:ext cx="291600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2819520" y="2590920"/>
              <a:ext cx="2916000" cy="23428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Data to Co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9" name="AmericanFactFinderSelectLastCell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794412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blank 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AmericanFactFinderInsertRows" descr=""/>
          <p:cNvPicPr/>
          <p:nvPr/>
        </p:nvPicPr>
        <p:blipFill>
          <a:blip r:embed="rId2"/>
          <a:stretch/>
        </p:blipFill>
        <p:spPr>
          <a:xfrm>
            <a:off x="1395360" y="1962000"/>
            <a:ext cx="63532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0:08:01Z</dcterms:created>
  <dc:creator>Carolyn Edds</dc:creator>
  <dc:description/>
  <dc:language>en-US</dc:language>
  <cp:lastModifiedBy>Carolyn Edds</cp:lastModifiedBy>
  <dcterms:modified xsi:type="dcterms:W3CDTF">2002-03-13T11:03:43Z</dcterms:modified>
  <cp:revision>6</cp:revision>
  <dc:subject/>
  <dc:title>Downloading Date From American FactFinder</dc:title>
</cp:coreProperties>
</file>